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27.png" ContentType="image/png"/>
  <Override PartName="/ppt/media/image29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4.png" ContentType="image/png"/>
  <Override PartName="/ppt/media/image12.jpeg" ContentType="image/jpeg"/>
  <Override PartName="/ppt/media/image34.png" ContentType="image/png"/>
  <Override PartName="/ppt/media/image28.png" ContentType="image/png"/>
  <Override PartName="/ppt/media/image30.png" ContentType="image/png"/>
  <Override PartName="/ppt/media/image5.png" ContentType="image/png"/>
  <Override PartName="/ppt/media/image35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1.jpeg" ContentType="image/jpeg"/>
  <Override PartName="/ppt/media/image10.jpeg" ContentType="image/jpe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7DAB6-E0AC-48A6-865D-75507C527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930E2-725C-4804-8D92-F6293C0CE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611A18-79A7-4C32-8661-2C18B3791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E1BFDD-C94C-436D-BD31-188DC3ED3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3BE3B2-C6DD-481A-AC12-5ABDDD56C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70F0A5-5EAA-4E91-8487-82DAFD8E6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09EAE6-1653-4109-8633-49C90DAC5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1009C5-DB82-47CD-9540-66B4890B0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5E4AEE-AAFE-4706-8CF0-F866B5F4C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19B379-83FA-44D3-A07C-F80A491FB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786EBE-9CA9-4BFA-BFE0-159C4E54F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A6736-036F-48B4-A4EF-8673E0FB8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546DB-F4B2-4932-8A14-7A69AC2E1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553C0-C871-4874-A0AF-C207A9499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BE217-6B0F-4D8A-8663-A9A865AC9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8FED7-BFEA-4C6F-8CAB-AD79D6896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B971B-F24B-4149-BBD7-08FA08011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5CDEA-6DDB-4E69-B829-05C569C7A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8EFBE-9367-437E-A01F-7F3BF3A8E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D096C-1C14-40FE-8D30-AF8F73E65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1B63C-A641-4D2C-90BF-2DD8568F0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2D63F-CB00-40F7-8A57-69D73300A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182E2-FD4D-4769-B1E3-226389D5A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E83E4-3E0A-4E78-BC9D-E4D89647D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3AD54-E041-457E-90BE-616DCED17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BDE06-F052-449A-B4DB-1840F360F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0D418D-230B-409C-A821-4EA3F80DE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897389-A40E-4BD5-A26A-89171167B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289522-9E39-4633-A2F0-9461BFA45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A4932E-8AF7-4EA6-B255-71C9BA078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CAC7F7-EBA8-4B5C-9D0E-A04E677AA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46AE9-A095-4A4B-AC70-68FFAE75E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E47172-48F9-4642-9FD9-5BACF3D5C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5D0BC0-9609-4C85-AC79-376775B1E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1E257C-9138-4322-91D8-0AF934893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0196FE-AED5-4CAE-9B46-0D58F25F3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46D2DA-F7E1-4237-804F-BF6632118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51F079-D5C8-434F-8624-309627701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B4967A-B3E4-403A-9C80-8680F64AA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E81321-193E-4ED8-BE21-B1020A4EB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B3A557-9461-4655-A5CD-835FE8401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1E90F1-EE14-4B7E-87EA-A9A0838B5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998FE-222B-42EC-9E64-CB909CCB1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EAC6BC-7C2C-4EFE-A432-70E7E6638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E619EB-D653-4F87-A16B-904871A3A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866B6B-FDA6-4D4C-8DB8-79F1EC093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B3F29F-136D-4B8B-8524-5E8B86649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F6614B-2F35-4F7E-8859-D6C0B4A10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4B0AC6-EB68-47C4-94D7-03755CB37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90E76D-3B74-49C9-B14C-CCC4F9E46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F7E340-4E80-4E08-A85C-0F02D54D5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DA965D-8870-4D93-BF1A-ABAB94EBA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BA674E-5C01-4C04-ABAE-6238D09E1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7F91A-5D68-428D-B6BE-4EC735D7E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9A53C9-7AFD-4206-B7E4-DE18E8861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08C667-7E13-47F2-BBF7-C1F046FD4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47953F-53F2-43F7-A1AE-4FBA38DCB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E6BB1F-F5DA-4F91-8A35-CA985ADD9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A9801C-FB23-427F-A6AA-BEF682293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4B5F17-E8AB-4AB3-9376-6AC916C61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1E4F96-A146-462B-A2C9-CA6FFE26F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64899F-E1B5-4D50-94C2-9BBCE8DC3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BAB58F-3E93-4C5D-9D0C-9ACB8350A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948F2E-C5C9-4463-964D-0352C7AB8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0D097-F236-44FF-8449-BCFAB79C8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7282BF-BAB9-41ED-8136-A1225254D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F37E51-BB62-425F-A351-B328A0B92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C98765-C7F5-42BA-9961-7E8672E44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E881C1-E5AA-43AB-BC52-665B5A2C7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BF98F6-5A50-4AFE-B4E9-0B9F41523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75312B-5239-4892-B195-2BF3C7F26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201E1A-A3F3-4590-8B0E-383B6268E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BE22E8-0C7F-4F75-8049-63E435DC8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5C3D5F-817F-4D08-B601-CBB04C338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3C2ACD-95AC-4E9A-9DE9-15FBBE36D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78D4E-4D40-4B22-B4A8-D3240C475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80C323-7C08-483F-8768-F1FA8D2EC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4AFDE7-0CC2-4BD0-9244-E826B5A83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28DF2F-AE82-4000-97DA-12CB5C0B8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AEC120-0332-446B-A81C-22AF6D650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01A8EF-4A5A-46B0-9734-5047E1371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47CE3D-22BC-4E98-A1F5-F2217AE44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DC6A7F-810A-43DB-8061-AD8F1D91F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8E4248-A2F6-4738-B8DD-BB801A89C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ADFDBC-C8E7-48FA-BC1D-5714B7490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D137D2-452E-482C-8371-59B95169B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994C2-0AF3-4BB9-BE0F-767AE879B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0C52DA-662C-4F73-A72B-9941990B8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4EC2D2-1285-4F73-916E-450D7FB37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2C794F-5BA9-4FCA-9118-71CCF9DE7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1A90B3-D68A-4FF6-8091-D0D455786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B7D683-6A1C-48A9-952B-63132C276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5076F1-0F2A-41E3-BA91-383F3035C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F9F0BF-0D08-482B-A1F4-21745CCC3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DFF0B7-FF8B-4798-9729-3D0F695B1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E4A9F6-FD19-472A-8A1E-894C684CB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B327D4-3F34-4B36-BD5D-EF74C9C8F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C4848-C2C9-4AB5-80F8-884D1725E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76F55F-DBD6-40AC-B9C1-9FE4F7FEF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8BD976-38BF-494B-BE2F-F1F462371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882419-8FBA-4E31-A784-E67E9AD1C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610CF7-C92A-4FEB-873F-4B0F2357D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1CCB2F-CE2D-4358-ACE4-DE68A6814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9F92AA-51F2-42B9-BF1D-9A559B637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8DDFEF-A740-4115-A4C1-686A33DA1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56EB3D-D9C6-4DF1-A8A1-73352AF1A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75EB9F-C884-4817-8DE8-4D1E4D030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989E96-C3FE-47C0-A66D-0B5782ED2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85.xml"/><Relationship Id="rId9" Type="http://schemas.openxmlformats.org/officeDocument/2006/relationships/slideLayout" Target="../slideLayouts/slideLayout86.xml"/><Relationship Id="rId10" Type="http://schemas.openxmlformats.org/officeDocument/2006/relationships/slideLayout" Target="../slideLayouts/slideLayout87.xml"/><Relationship Id="rId11" Type="http://schemas.openxmlformats.org/officeDocument/2006/relationships/slideLayout" Target="../slideLayouts/slideLayout88.xml"/><Relationship Id="rId12" Type="http://schemas.openxmlformats.org/officeDocument/2006/relationships/slideLayout" Target="../slideLayouts/slideLayout89.xml"/><Relationship Id="rId13" Type="http://schemas.openxmlformats.org/officeDocument/2006/relationships/slideLayout" Target="../slideLayouts/slideLayout90.xml"/><Relationship Id="rId14" Type="http://schemas.openxmlformats.org/officeDocument/2006/relationships/slideLayout" Target="../slideLayouts/slideLayout91.xml"/><Relationship Id="rId15" Type="http://schemas.openxmlformats.org/officeDocument/2006/relationships/slideLayout" Target="../slideLayouts/slideLayout92.xml"/><Relationship Id="rId16" Type="http://schemas.openxmlformats.org/officeDocument/2006/relationships/slideLayout" Target="../slideLayouts/slideLayout93.xml"/><Relationship Id="rId17" Type="http://schemas.openxmlformats.org/officeDocument/2006/relationships/slideLayout" Target="../slideLayouts/slideLayout94.xml"/><Relationship Id="rId18" Type="http://schemas.openxmlformats.org/officeDocument/2006/relationships/slideLayout" Target="../slideLayouts/slideLayout95.xml"/><Relationship Id="rId19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a6b9db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1f497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2957A-58EB-45DD-A399-47DD446EFDE3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a6b9db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50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2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53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154c8e"/>
              </a:gs>
              <a:gs pos="50000">
                <a:srgbClr val="5e91da"/>
              </a:gs>
              <a:gs pos="100000">
                <a:srgbClr val="154c8e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55" name="Freeform 16"/>
            <p:cNvSpPr/>
            <p:nvPr/>
          </p:nvSpPr>
          <p:spPr>
            <a:xfrm>
              <a:off x="1694520" y="4952880"/>
              <a:ext cx="7449480" cy="48816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8160"/>
                <a:gd name="textAreaBottom" fmla="*/ 488520 h 48816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a6b9db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8"/>
            <p:cNvSpPr/>
            <p:nvPr/>
          </p:nvSpPr>
          <p:spPr>
            <a:xfrm>
              <a:off x="44280" y="5237640"/>
              <a:ext cx="9099720" cy="788760"/>
            </a:xfrm>
            <a:custGeom>
              <a:avLst/>
              <a:gdLst>
                <a:gd name="textAreaLeft" fmla="*/ 0 w 9099720"/>
                <a:gd name="textAreaRight" fmla="*/ 9100080 w 9099720"/>
                <a:gd name="textAreaTop" fmla="*/ 0 h 788760"/>
                <a:gd name="textAreaBottom" fmla="*/ 789120 h 78876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Freeform 19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8" name="Freeform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" name=""/>
              <p:cNvSpPr/>
              <p:nvPr/>
            </p:nvSpPr>
            <p:spPr>
              <a:xfrm>
                <a:off x="864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60" name="Straight Connector 20" descr=""/>
            <p:cNvPicPr/>
            <p:nvPr/>
          </p:nvPicPr>
          <p:blipFill>
            <a:blip r:embed="rId5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1f497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35435-93EF-4310-AD1E-B43F981B7EE0}" type="slidenum">
              <a:rPr b="0" lang="en-GB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a6b9db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05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7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grpSp>
        <p:nvGrpSpPr>
          <p:cNvPr id="108" name="Chevron 10"/>
          <p:cNvGrpSpPr/>
          <p:nvPr/>
        </p:nvGrpSpPr>
        <p:grpSpPr>
          <a:xfrm>
            <a:off x="3565440" y="2962440"/>
            <a:ext cx="336600" cy="377640"/>
            <a:chOff x="3565440" y="2962440"/>
            <a:chExt cx="336600" cy="377640"/>
          </a:xfrm>
        </p:grpSpPr>
        <p:pic>
          <p:nvPicPr>
            <p:cNvPr id="109" name="Chevron 10" descr=""/>
            <p:cNvPicPr/>
            <p:nvPr/>
          </p:nvPicPr>
          <p:blipFill>
            <a:blip r:embed="rId4"/>
            <a:stretch/>
          </p:blipFill>
          <p:spPr>
            <a:xfrm>
              <a:off x="3565440" y="2962440"/>
              <a:ext cx="336600" cy="37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"/>
            <p:cNvSpPr/>
            <p:nvPr/>
          </p:nvSpPr>
          <p:spPr>
            <a:xfrm>
              <a:off x="3637080" y="3005280"/>
              <a:ext cx="182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Chevron 15"/>
          <p:cNvGrpSpPr/>
          <p:nvPr/>
        </p:nvGrpSpPr>
        <p:grpSpPr>
          <a:xfrm>
            <a:off x="3376440" y="2962440"/>
            <a:ext cx="336600" cy="377640"/>
            <a:chOff x="3376440" y="2962440"/>
            <a:chExt cx="336600" cy="377640"/>
          </a:xfrm>
        </p:grpSpPr>
        <p:pic>
          <p:nvPicPr>
            <p:cNvPr id="112" name="Chevron 15" descr=""/>
            <p:cNvPicPr/>
            <p:nvPr/>
          </p:nvPicPr>
          <p:blipFill>
            <a:blip r:embed="rId5"/>
            <a:stretch/>
          </p:blipFill>
          <p:spPr>
            <a:xfrm>
              <a:off x="3376440" y="2962440"/>
              <a:ext cx="336600" cy="37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"/>
            <p:cNvSpPr/>
            <p:nvPr/>
          </p:nvSpPr>
          <p:spPr>
            <a:xfrm>
              <a:off x="3449520" y="3005280"/>
              <a:ext cx="184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eeece1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eeece1"/>
              </a:solidFill>
              <a:latin typeface="Lucida Sans Unicod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2B42E-7C74-422C-9647-57C757E85721}" type="slidenum">
              <a:rPr b="0" lang="en-GB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a6b9db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58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0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eeece1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eeece1"/>
              </a:solidFill>
              <a:latin typeface="Lucida Sans Unicode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09854-3110-4CBC-BE1D-98F8A2A459F3}" type="slidenum">
              <a:rPr b="0" lang="en-GB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a6b9db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05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7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1f497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69175-943C-4753-8F48-0BAD97581F4E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a6b9db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1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52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54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eeece1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eeece1"/>
              </a:solidFill>
              <a:latin typeface="Lucida Sans Unicode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16344-84D2-4B05-A7D4-5987ECB7AD73}" type="slidenum">
              <a:rPr b="0" lang="en-GB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a6b9db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8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99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01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1f497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5C228-174E-4A0D-B451-161A34B776C6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a6b9db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5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46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48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49" name="Freef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a6b9db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Freef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1" name="Right Triangle 16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52" name="Right Triangle 16" descr=""/>
            <p:cNvPicPr/>
            <p:nvPr/>
          </p:nvPicPr>
          <p:blipFill>
            <a:blip r:embed="rId4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3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54" name="Straight Connector 18" descr=""/>
          <p:cNvPicPr/>
          <p:nvPr/>
        </p:nvPicPr>
        <p:blipFill>
          <a:blip r:embed="rId5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grpSp>
        <p:nvGrpSpPr>
          <p:cNvPr id="355" name="Chevron 19"/>
          <p:cNvGrpSpPr/>
          <p:nvPr/>
        </p:nvGrpSpPr>
        <p:grpSpPr>
          <a:xfrm>
            <a:off x="8589960" y="4943520"/>
            <a:ext cx="334800" cy="377640"/>
            <a:chOff x="8589960" y="4943520"/>
            <a:chExt cx="334800" cy="377640"/>
          </a:xfrm>
        </p:grpSpPr>
        <p:pic>
          <p:nvPicPr>
            <p:cNvPr id="356" name="Chevron 19" descr=""/>
            <p:cNvPicPr/>
            <p:nvPr/>
          </p:nvPicPr>
          <p:blipFill>
            <a:blip r:embed="rId6"/>
            <a:stretch/>
          </p:blipFill>
          <p:spPr>
            <a:xfrm>
              <a:off x="8589960" y="4943520"/>
              <a:ext cx="334800" cy="37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7" name=""/>
            <p:cNvSpPr/>
            <p:nvPr/>
          </p:nvSpPr>
          <p:spPr>
            <a:xfrm>
              <a:off x="8664480" y="4987800"/>
              <a:ext cx="182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8" name="Chevron 20"/>
          <p:cNvGrpSpPr/>
          <p:nvPr/>
        </p:nvGrpSpPr>
        <p:grpSpPr>
          <a:xfrm>
            <a:off x="8405640" y="4943520"/>
            <a:ext cx="336600" cy="377640"/>
            <a:chOff x="8405640" y="4943520"/>
            <a:chExt cx="336600" cy="377640"/>
          </a:xfrm>
        </p:grpSpPr>
        <p:pic>
          <p:nvPicPr>
            <p:cNvPr id="359" name="Chevron 20" descr=""/>
            <p:cNvPicPr/>
            <p:nvPr/>
          </p:nvPicPr>
          <p:blipFill>
            <a:blip r:embed="rId7"/>
            <a:stretch/>
          </p:blipFill>
          <p:spPr>
            <a:xfrm>
              <a:off x="8405640" y="4943520"/>
              <a:ext cx="336600" cy="37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0" name=""/>
            <p:cNvSpPr/>
            <p:nvPr/>
          </p:nvSpPr>
          <p:spPr>
            <a:xfrm>
              <a:off x="8477280" y="4987800"/>
              <a:ext cx="182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eeece1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eeece1"/>
              </a:solidFill>
              <a:latin typeface="Lucida Sans Unicode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9E843-72A7-40C9-8DD9-7715828115C6}" type="slidenum">
              <a:rPr b="0" lang="en-GB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8"/>
    <p:sldLayoutId id="2147483741" r:id="rId9"/>
    <p:sldLayoutId id="2147483742" r:id="rId10"/>
    <p:sldLayoutId id="2147483743" r:id="rId11"/>
    <p:sldLayoutId id="2147483744" r:id="rId12"/>
    <p:sldLayoutId id="2147483745" r:id="rId13"/>
    <p:sldLayoutId id="2147483746" r:id="rId14"/>
    <p:sldLayoutId id="2147483747" r:id="rId15"/>
    <p:sldLayoutId id="2147483748" r:id="rId16"/>
    <p:sldLayoutId id="2147483749" r:id="rId17"/>
    <p:sldLayoutId id="2147483750" r:id="rId18"/>
    <p:sldLayoutId id="2147483751" r:id="rId19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a6b9db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4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405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6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07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1f497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D11EC-5FC3-4C15-8DDC-EC5C61F4216E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Rectangle 4" descr=""/>
          <p:cNvPicPr/>
          <p:nvPr/>
        </p:nvPicPr>
        <p:blipFill>
          <a:blip r:embed="rId1"/>
          <a:stretch/>
        </p:blipFill>
        <p:spPr>
          <a:xfrm>
            <a:off x="487440" y="2871720"/>
            <a:ext cx="8186760" cy="1785960"/>
          </a:xfrm>
          <a:prstGeom prst="rect">
            <a:avLst/>
          </a:prstGeom>
          <a:ln w="0">
            <a:noFill/>
          </a:ln>
        </p:spPr>
      </p:pic>
      <p:sp>
        <p:nvSpPr>
          <p:cNvPr id="450" name="PlaceHolder 1"/>
          <p:cNvSpPr>
            <a:spLocks noGrp="1"/>
          </p:cNvSpPr>
          <p:nvPr>
            <p:ph type="subTitle"/>
          </p:nvPr>
        </p:nvSpPr>
        <p:spPr>
          <a:xfrm>
            <a:off x="685800" y="443664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Lucida Sans Unicode"/>
              </a:rPr>
              <a:t>Julia Critchley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451" name="Group 2"/>
          <p:cNvGrpSpPr/>
          <p:nvPr/>
        </p:nvGrpSpPr>
        <p:grpSpPr>
          <a:xfrm>
            <a:off x="85680" y="115920"/>
            <a:ext cx="1606680" cy="530280"/>
            <a:chOff x="85680" y="115920"/>
            <a:chExt cx="1606680" cy="530280"/>
          </a:xfrm>
        </p:grpSpPr>
        <p:pic>
          <p:nvPicPr>
            <p:cNvPr id="452" name="Picture 5" descr="http://research.ncl.ac.uk/media/sites/researchwebsites/rescapmed/EUlogo.jpg"/>
            <p:cNvPicPr/>
            <p:nvPr/>
          </p:nvPicPr>
          <p:blipFill>
            <a:blip r:embed="rId2"/>
            <a:stretch/>
          </p:blipFill>
          <p:spPr>
            <a:xfrm>
              <a:off x="85680" y="115920"/>
              <a:ext cx="811440" cy="530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3" name="Picture 7" descr="http://research.ncl.ac.uk/media/sites/researchwebsites/rescapmed/FP7logo2.jpg"/>
            <p:cNvPicPr/>
            <p:nvPr/>
          </p:nvPicPr>
          <p:blipFill>
            <a:blip r:embed="rId3"/>
            <a:stretch/>
          </p:blipFill>
          <p:spPr>
            <a:xfrm>
              <a:off x="1044360" y="120600"/>
              <a:ext cx="648000" cy="5256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54" name="Picture 1" descr=""/>
          <p:cNvPicPr/>
          <p:nvPr/>
        </p:nvPicPr>
        <p:blipFill>
          <a:blip r:embed="rId4"/>
          <a:stretch/>
        </p:blipFill>
        <p:spPr>
          <a:xfrm>
            <a:off x="7000920" y="109440"/>
            <a:ext cx="2093760" cy="1481400"/>
          </a:xfrm>
          <a:prstGeom prst="rect">
            <a:avLst/>
          </a:prstGeom>
          <a:ln w="0">
            <a:noFill/>
          </a:ln>
        </p:spPr>
      </p:pic>
      <p:pic>
        <p:nvPicPr>
          <p:cNvPr id="455" name="Picture 2" descr=""/>
          <p:cNvPicPr/>
          <p:nvPr/>
        </p:nvPicPr>
        <p:blipFill>
          <a:blip r:embed="rId5"/>
          <a:stretch/>
        </p:blipFill>
        <p:spPr>
          <a:xfrm>
            <a:off x="2484360" y="139680"/>
            <a:ext cx="3527640" cy="163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2" name="Title 1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47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In relation to your research study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ust be defined by this guiding concept (ie your research objective, the problem or issue you are discussing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Not just a descriptive list of the material available, or a set of summari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4" name="Title 1" descr=""/>
          <p:cNvPicPr/>
          <p:nvPr/>
        </p:nvPicPr>
        <p:blipFill>
          <a:blip r:embed="rId1"/>
          <a:stretch/>
        </p:blipFill>
        <p:spPr>
          <a:xfrm>
            <a:off x="176040" y="182520"/>
            <a:ext cx="8791920" cy="1238400"/>
          </a:xfrm>
          <a:prstGeom prst="rect">
            <a:avLst/>
          </a:prstGeom>
          <a:ln w="0">
            <a:noFill/>
          </a:ln>
        </p:spPr>
      </p:pic>
      <p:sp>
        <p:nvSpPr>
          <p:cNvPr id="475" name=""/>
          <p:cNvSpPr txBox="1"/>
          <p:nvPr/>
        </p:nvSpPr>
        <p:spPr>
          <a:xfrm>
            <a:off x="457200" y="1341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What are the main arguments?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Do the authors make similar or different arguments?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Are some arguments more convincing than others?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How has research been conducted in the literature?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How extensive has it been?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What kinds of data have been presented?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How pertinent are they?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Are there sufficient amounts of data?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Do they adequately answer the questions?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"/>
          <p:cNvSpPr txBox="1"/>
          <p:nvPr/>
        </p:nvSpPr>
        <p:spPr>
          <a:xfrm>
            <a:off x="457200" y="1481040"/>
            <a:ext cx="8229600" cy="50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What are the different types of methodologies used?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Sans Unicode"/>
              </a:rPr>
              <a:t>How well do they work?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Sans Unicode"/>
              </a:rPr>
              <a:t>Is one methodology more effective than others?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Sans Unicode"/>
              </a:rPr>
              <a:t>Why?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What are the different theoretical frameworks or approaches used?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Sans Unicode"/>
              </a:rPr>
              <a:t>What do they allow the authors o do?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Sans Unicode"/>
              </a:rPr>
              <a:t>How well do they work?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Sans Unicode"/>
              </a:rPr>
              <a:t>Is one approach more effective than others? Why?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Overall, is one work more convincing than others?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Sans Unicode"/>
              </a:rPr>
              <a:t>Why?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Sans Unicode"/>
              </a:rPr>
              <a:t>Or are the works you have compared too different to evaluate against each other?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77" name="Tit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8" name="Title 1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479" name=""/>
          <p:cNvSpPr txBox="1"/>
          <p:nvPr/>
        </p:nvSpPr>
        <p:spPr>
          <a:xfrm>
            <a:off x="45720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Lucida Sans Unicode"/>
              </a:rPr>
              <a:t>Searching for literature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Not extensive or exhaustive “systematic review”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Do not need to identify “all literature”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Recent literature will often do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BUT do need to identify key articles in the field (not always recent)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Lucida Sans Unicode"/>
              </a:rPr>
              <a:t>Key articles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Cited a lot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High impact journals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Check citations e.g. in pubmed, google scholar, science citation index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MEDLINE (PubMed)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Systematic review articles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Science Citation Index (can be very helpful if there is a “key paper” that most relevant studies will have cited)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0" name="Rectangle 2" descr=""/>
          <p:cNvPicPr/>
          <p:nvPr/>
        </p:nvPicPr>
        <p:blipFill>
          <a:blip r:embed="rId1"/>
          <a:stretch/>
        </p:blipFill>
        <p:spPr>
          <a:xfrm>
            <a:off x="384120" y="36360"/>
            <a:ext cx="8302680" cy="1024200"/>
          </a:xfrm>
          <a:prstGeom prst="rect">
            <a:avLst/>
          </a:prstGeom>
          <a:ln w="0">
            <a:noFill/>
          </a:ln>
        </p:spPr>
      </p:pic>
      <p:pic>
        <p:nvPicPr>
          <p:cNvPr id="481" name="Picture 4" descr=""/>
          <p:cNvPicPr/>
          <p:nvPr/>
        </p:nvPicPr>
        <p:blipFill>
          <a:blip r:embed="rId2"/>
          <a:srcRect l="0" t="0" r="-1248" b="-2039"/>
          <a:stretch/>
        </p:blipFill>
        <p:spPr>
          <a:xfrm>
            <a:off x="2209680" y="1066680"/>
            <a:ext cx="6782040" cy="5083200"/>
          </a:xfrm>
          <a:prstGeom prst="rect">
            <a:avLst/>
          </a:prstGeom>
          <a:ln w="0">
            <a:noFill/>
          </a:ln>
        </p:spPr>
      </p:pic>
      <p:sp>
        <p:nvSpPr>
          <p:cNvPr id="482" name="AutoShape 7"/>
          <p:cNvSpPr/>
          <p:nvPr/>
        </p:nvSpPr>
        <p:spPr>
          <a:xfrm>
            <a:off x="152280" y="5334120"/>
            <a:ext cx="2057400" cy="761760"/>
          </a:xfrm>
          <a:prstGeom prst="rightArrow">
            <a:avLst>
              <a:gd name="adj1" fmla="val 50000"/>
              <a:gd name="adj2" fmla="val 67521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-1080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1f497d"/>
              </a:solidFill>
              <a:latin typeface="Lucida Sans Unicode"/>
            </a:endParaRPr>
          </a:p>
        </p:txBody>
      </p:sp>
      <p:pic>
        <p:nvPicPr>
          <p:cNvPr id="484" name="Picture 4" descr=""/>
          <p:cNvPicPr/>
          <p:nvPr/>
        </p:nvPicPr>
        <p:blipFill>
          <a:blip r:embed="rId1"/>
          <a:srcRect l="0" t="0" r="-1066" b="-1359"/>
          <a:stretch/>
        </p:blipFill>
        <p:spPr>
          <a:xfrm>
            <a:off x="228600" y="185760"/>
            <a:ext cx="8610480" cy="6454800"/>
          </a:xfrm>
          <a:prstGeom prst="rect">
            <a:avLst/>
          </a:prstGeom>
          <a:ln w="0">
            <a:noFill/>
          </a:ln>
        </p:spPr>
      </p:pic>
      <p:sp>
        <p:nvSpPr>
          <p:cNvPr id="485" name="AutoShape 5"/>
          <p:cNvSpPr/>
          <p:nvPr/>
        </p:nvSpPr>
        <p:spPr>
          <a:xfrm>
            <a:off x="7010280" y="2743200"/>
            <a:ext cx="1600200" cy="762120"/>
          </a:xfrm>
          <a:prstGeom prst="leftArrow">
            <a:avLst>
              <a:gd name="adj1" fmla="val 50000"/>
              <a:gd name="adj2" fmla="val 5249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-1080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1f497d"/>
              </a:solidFill>
              <a:latin typeface="Lucida Sans Unicode"/>
            </a:endParaRPr>
          </a:p>
        </p:txBody>
      </p:sp>
      <p:pic>
        <p:nvPicPr>
          <p:cNvPr id="487" name="Picture 3" descr=""/>
          <p:cNvPicPr/>
          <p:nvPr/>
        </p:nvPicPr>
        <p:blipFill>
          <a:blip r:embed="rId1"/>
          <a:srcRect l="0" t="0" r="-1066" b="-1359"/>
          <a:stretch/>
        </p:blipFill>
        <p:spPr>
          <a:xfrm>
            <a:off x="228600" y="185760"/>
            <a:ext cx="8610480" cy="6454800"/>
          </a:xfrm>
          <a:prstGeom prst="rect">
            <a:avLst/>
          </a:prstGeom>
          <a:ln w="0">
            <a:noFill/>
          </a:ln>
        </p:spPr>
      </p:pic>
      <p:sp>
        <p:nvSpPr>
          <p:cNvPr id="488" name="AutoShape 4"/>
          <p:cNvSpPr/>
          <p:nvPr/>
        </p:nvSpPr>
        <p:spPr>
          <a:xfrm>
            <a:off x="7010280" y="2743200"/>
            <a:ext cx="1600200" cy="762120"/>
          </a:xfrm>
          <a:prstGeom prst="leftArrow">
            <a:avLst>
              <a:gd name="adj1" fmla="val 50000"/>
              <a:gd name="adj2" fmla="val 5249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AutoShape 5"/>
          <p:cNvSpPr/>
          <p:nvPr/>
        </p:nvSpPr>
        <p:spPr>
          <a:xfrm>
            <a:off x="457200" y="3809880"/>
            <a:ext cx="1433520" cy="685800"/>
          </a:xfrm>
          <a:prstGeom prst="rightArrow">
            <a:avLst>
              <a:gd name="adj1" fmla="val 50000"/>
              <a:gd name="adj2" fmla="val 5225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-1080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1f497d"/>
              </a:solidFill>
              <a:latin typeface="Lucida Sans Unicode"/>
            </a:endParaRPr>
          </a:p>
        </p:txBody>
      </p:sp>
      <p:pic>
        <p:nvPicPr>
          <p:cNvPr id="491" name="Picture 4" descr=""/>
          <p:cNvPicPr/>
          <p:nvPr/>
        </p:nvPicPr>
        <p:blipFill>
          <a:blip r:embed="rId1"/>
          <a:srcRect l="0" t="0" r="-108" b="-281"/>
          <a:stretch/>
        </p:blipFill>
        <p:spPr>
          <a:xfrm>
            <a:off x="0" y="3240"/>
            <a:ext cx="9144000" cy="685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-1080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1f497d"/>
              </a:solidFill>
              <a:latin typeface="Lucida Sans Unicode"/>
            </a:endParaRPr>
          </a:p>
        </p:txBody>
      </p:sp>
      <p:pic>
        <p:nvPicPr>
          <p:cNvPr id="493" name="Picture 3" descr=""/>
          <p:cNvPicPr/>
          <p:nvPr/>
        </p:nvPicPr>
        <p:blipFill>
          <a:blip r:embed="rId1"/>
          <a:srcRect l="0" t="0" r="-108" b="-281"/>
          <a:stretch/>
        </p:blipFill>
        <p:spPr>
          <a:xfrm>
            <a:off x="0" y="324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494" name="AutoShape 4"/>
          <p:cNvSpPr/>
          <p:nvPr/>
        </p:nvSpPr>
        <p:spPr>
          <a:xfrm>
            <a:off x="7162920" y="1219320"/>
            <a:ext cx="1066680" cy="1433520"/>
          </a:xfrm>
          <a:prstGeom prst="downArrow">
            <a:avLst>
              <a:gd name="adj1" fmla="val 50000"/>
              <a:gd name="adj2" fmla="val 33598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-2833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1f497d"/>
              </a:solidFill>
              <a:latin typeface="Lucida Sans Unicode"/>
            </a:endParaRPr>
          </a:p>
        </p:txBody>
      </p:sp>
      <p:pic>
        <p:nvPicPr>
          <p:cNvPr id="496" name="Picture 4" descr=""/>
          <p:cNvPicPr/>
          <p:nvPr/>
        </p:nvPicPr>
        <p:blipFill>
          <a:blip r:embed="rId1"/>
          <a:srcRect l="0" t="0" r="-753" b="-1378"/>
          <a:stretch/>
        </p:blipFill>
        <p:spPr>
          <a:xfrm>
            <a:off x="-152280" y="0"/>
            <a:ext cx="9296280" cy="7140600"/>
          </a:xfrm>
          <a:prstGeom prst="rect">
            <a:avLst/>
          </a:prstGeom>
          <a:ln w="0">
            <a:noFill/>
          </a:ln>
        </p:spPr>
      </p:pic>
      <p:sp>
        <p:nvSpPr>
          <p:cNvPr id="497" name="AutoShape 5"/>
          <p:cNvSpPr/>
          <p:nvPr/>
        </p:nvSpPr>
        <p:spPr>
          <a:xfrm>
            <a:off x="152280" y="2743200"/>
            <a:ext cx="1586160" cy="990720"/>
          </a:xfrm>
          <a:prstGeom prst="rightArrow">
            <a:avLst>
              <a:gd name="adj1" fmla="val 50000"/>
              <a:gd name="adj2" fmla="val 40025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6" name="Title 1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45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Lucida Sans Unicode"/>
              </a:rPr>
              <a:t>Provides an overview and a critical evaluation of a body of literature relating to a research topic or a research problem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Lucida Sans Unicode"/>
              </a:rPr>
              <a:t>Analyses a body of literature in order to classify it by themes or categories, rather than simply discussing individual works one after another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Lucida Sans Unicode"/>
              </a:rPr>
              <a:t>Presents the research and ideas of the field rather than each individual work or author by itself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-2833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1f497d"/>
              </a:solidFill>
              <a:latin typeface="Lucida Sans Unicode"/>
            </a:endParaRPr>
          </a:p>
        </p:txBody>
      </p:sp>
      <p:pic>
        <p:nvPicPr>
          <p:cNvPr id="499" name="Picture 3" descr=""/>
          <p:cNvPicPr/>
          <p:nvPr/>
        </p:nvPicPr>
        <p:blipFill>
          <a:blip r:embed="rId1"/>
          <a:srcRect l="0" t="0" r="-753" b="-1378"/>
          <a:stretch/>
        </p:blipFill>
        <p:spPr>
          <a:xfrm>
            <a:off x="-152280" y="0"/>
            <a:ext cx="9296280" cy="7140600"/>
          </a:xfrm>
          <a:prstGeom prst="rect">
            <a:avLst/>
          </a:prstGeom>
          <a:ln w="0">
            <a:noFill/>
          </a:ln>
        </p:spPr>
      </p:pic>
      <p:sp>
        <p:nvSpPr>
          <p:cNvPr id="500" name="AutoShape 4"/>
          <p:cNvSpPr/>
          <p:nvPr/>
        </p:nvSpPr>
        <p:spPr>
          <a:xfrm>
            <a:off x="152280" y="2743200"/>
            <a:ext cx="1586160" cy="990720"/>
          </a:xfrm>
          <a:prstGeom prst="rightArrow">
            <a:avLst>
              <a:gd name="adj1" fmla="val 50000"/>
              <a:gd name="adj2" fmla="val 40025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Line 7"/>
          <p:cNvSpPr/>
          <p:nvPr/>
        </p:nvSpPr>
        <p:spPr>
          <a:xfrm>
            <a:off x="3809880" y="2743200"/>
            <a:ext cx="381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Line 8"/>
          <p:cNvSpPr/>
          <p:nvPr/>
        </p:nvSpPr>
        <p:spPr>
          <a:xfrm>
            <a:off x="4191120" y="27432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Line 9"/>
          <p:cNvSpPr/>
          <p:nvPr/>
        </p:nvSpPr>
        <p:spPr>
          <a:xfrm flipH="1">
            <a:off x="3809520" y="3048120"/>
            <a:ext cx="381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Line 11"/>
          <p:cNvSpPr/>
          <p:nvPr/>
        </p:nvSpPr>
        <p:spPr>
          <a:xfrm flipV="1">
            <a:off x="3809880" y="274284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AutoShape 12"/>
          <p:cNvSpPr/>
          <p:nvPr/>
        </p:nvSpPr>
        <p:spPr>
          <a:xfrm>
            <a:off x="4267080" y="2590920"/>
            <a:ext cx="1219320" cy="685800"/>
          </a:xfrm>
          <a:prstGeom prst="leftArrow">
            <a:avLst>
              <a:gd name="adj1" fmla="val 50000"/>
              <a:gd name="adj2" fmla="val 44449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-2833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1f497d"/>
              </a:solidFill>
              <a:latin typeface="Lucida Sans Unicode"/>
            </a:endParaRPr>
          </a:p>
        </p:txBody>
      </p:sp>
      <p:pic>
        <p:nvPicPr>
          <p:cNvPr id="507" name="Picture 3" descr=""/>
          <p:cNvPicPr/>
          <p:nvPr/>
        </p:nvPicPr>
        <p:blipFill>
          <a:blip r:embed="rId1"/>
          <a:srcRect l="0" t="0" r="-753" b="-1378"/>
          <a:stretch/>
        </p:blipFill>
        <p:spPr>
          <a:xfrm>
            <a:off x="-152280" y="0"/>
            <a:ext cx="9296280" cy="7140600"/>
          </a:xfrm>
          <a:prstGeom prst="rect">
            <a:avLst/>
          </a:prstGeom>
          <a:ln w="0">
            <a:noFill/>
          </a:ln>
        </p:spPr>
      </p:pic>
      <p:sp>
        <p:nvSpPr>
          <p:cNvPr id="508" name="AutoShape 10"/>
          <p:cNvSpPr/>
          <p:nvPr/>
        </p:nvSpPr>
        <p:spPr>
          <a:xfrm>
            <a:off x="1752480" y="685800"/>
            <a:ext cx="914400" cy="1357200"/>
          </a:xfrm>
          <a:prstGeom prst="downArrow">
            <a:avLst>
              <a:gd name="adj1" fmla="val 50000"/>
              <a:gd name="adj2" fmla="val 3710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9" name="Title 1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51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Start with “</a:t>
            </a:r>
            <a:r>
              <a:rPr b="0" lang="en-GB" sz="2700" spc="-1" strike="noStrike">
                <a:solidFill>
                  <a:srgbClr val="ff0000"/>
                </a:solidFill>
                <a:latin typeface="Lucida Sans Unicode"/>
              </a:rPr>
              <a:t>What is known</a:t>
            </a: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”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In first sentence, state general topic of paper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Explain background / motivation (literature review) in a few sentences or paragraphs)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Narrow down to </a:t>
            </a:r>
            <a:r>
              <a:rPr b="0" lang="en-GB" sz="2300" spc="-1" strike="noStrike">
                <a:solidFill>
                  <a:srgbClr val="ff0000"/>
                </a:solidFill>
                <a:latin typeface="Lucida Sans Unicode"/>
              </a:rPr>
              <a:t>what is NOT known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1" name="Title 1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51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“</a:t>
            </a:r>
            <a:r>
              <a:rPr b="0" lang="en-GB" sz="2700" spc="-1" strike="noStrike">
                <a:solidFill>
                  <a:srgbClr val="ff0000"/>
                </a:solidFill>
                <a:latin typeface="Lucida Sans Unicode"/>
              </a:rPr>
              <a:t>What is not known</a:t>
            </a: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”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Brief statement, usually one sentence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Important, because it indicates: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100" spc="-1" strike="noStrike">
                <a:solidFill>
                  <a:srgbClr val="00b050"/>
                </a:solidFill>
                <a:latin typeface="Lucida Sans Unicode"/>
              </a:rPr>
              <a:t>that this work is new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100" spc="-1" strike="noStrike">
                <a:solidFill>
                  <a:srgbClr val="00b050"/>
                </a:solidFill>
                <a:latin typeface="Lucida Sans Unicode"/>
              </a:rPr>
              <a:t>links known and research question 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100" spc="-1" strike="noStrike">
                <a:solidFill>
                  <a:srgbClr val="00b050"/>
                </a:solidFill>
                <a:latin typeface="Lucida Sans Unicode"/>
              </a:rPr>
              <a:t>creates story line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3" name="Title 1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51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Flag this very clearly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E.g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“</a:t>
            </a: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is unknown”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“</a:t>
            </a: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is unclear”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“</a:t>
            </a: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needs to be determined”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349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Research Question must follow from “</a:t>
            </a:r>
            <a:r>
              <a:rPr b="0" lang="en-GB" sz="2700" spc="-1" strike="noStrike">
                <a:solidFill>
                  <a:srgbClr val="ff0000"/>
                </a:solidFill>
                <a:latin typeface="Lucida Sans Unicode"/>
              </a:rPr>
              <a:t>what is not known</a:t>
            </a: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”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349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5" name="Title 1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51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New sentence / paragraph for each known, unknown, quest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Use transition phrases and word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Repeat key them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IEA 2013 course on Epidemiology – Shah Ebrahim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Epidemiology Supercourse (presentations by Richard Smith and Pauls Zieg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18" name="Tit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8" name="Title 1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656560" cy="1243080"/>
          </a:xfrm>
          <a:prstGeom prst="rect">
            <a:avLst/>
          </a:prstGeom>
          <a:ln w="0">
            <a:noFill/>
          </a:ln>
        </p:spPr>
      </p:pic>
      <p:sp>
        <p:nvSpPr>
          <p:cNvPr id="45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Why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Has your research question already been answered? If so, how?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How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Search through the literatur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Writing of a review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0" name="Title 1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46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Lucida Sans Unicode"/>
              </a:rPr>
              <a:t>Situates your topic in relation to previous research and illuminates a spot for your research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[Also demonstrates your knowledge of literature]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Lucida Sans Unicode"/>
              </a:rPr>
              <a:t>Several goals: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provides background for your topic using previous research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shows you are familiar with previous, relevant research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evaluates the depth and breadth of the research in regards to your topic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determines remaining questions or aspects of your topic in need of research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2" name="Title 1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46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Overall, a literature review seeks to answer the following questions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What does the literature tell you?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What does the literature not tell you?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Why is this important?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Summarise everything in the field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Write loads and demonstrate you know “everything”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[This is just a few sentences to a few (short) paragraphs to put your work in context]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65" name="Tit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6" name="Title 1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46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1. Synthesize and evaluate informat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2. Identify the main ideas of the literatur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3. Identify the main argument of the literature review …[that supports your research question]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4. Organize the main points of the literature review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5. Write literature review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8" name="Title 1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46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Critical thinking, reading, and writing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Strategies for reading</a:t>
            </a: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take note of the themes or categorie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may be used later to develop a structure for the literature review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take note of how other writers classify their data, the literature in their fields, etc.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read literature reviews in other papers to see how they have been structured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Lucida Sans Unicode"/>
              </a:rPr>
              <a:t>Form categories for analysis and comparison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Lucida Sans Unicode"/>
              </a:rPr>
              <a:t>A strong literature review examines each work on its own and in relation to other works by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identifying and then analysing them with regards to a number of different research aspects and ideas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Lucida Sans Unicode"/>
              </a:rPr>
              <a:t>possible categories to use for comparison and analysis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topic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argument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results found and conclusions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methods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theoretical approach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71" name="Tit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3T14:49:39Z</dcterms:created>
  <dc:creator>ntpm</dc:creator>
  <dc:description/>
  <dc:language>en-US</dc:language>
  <cp:lastModifiedBy>Licenced User</cp:lastModifiedBy>
  <cp:lastPrinted>2012-08-01T12:36:40Z</cp:lastPrinted>
  <dcterms:modified xsi:type="dcterms:W3CDTF">2014-09-18T15:36:43Z</dcterms:modified>
  <cp:revision>264</cp:revision>
  <dc:subject/>
  <dc:title>Slide 1</dc:title>
</cp:coreProperties>
</file>